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ct" ContentType="image/x-pict"/>
  <Override PartName="/ppt/media/image10.pct" ContentType="image/x-pict"/>
  <Override PartName="/ppt/media/image13.png" ContentType="image/png"/>
  <Override PartName="/ppt/media/image11.pct" ContentType="image/x-pict"/>
  <Override PartName="/ppt/media/image12.pct" ContentType="image/x-pict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EAF8-845C-4093-992A-33202E766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ADFB-A9DF-4941-91D7-6C8C3E04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F8CC-F16E-4874-BF71-B2ACCD9A6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0C4C-ADF0-44F7-9675-1396868FF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7CC1-B17E-4E11-A193-DAE0CF0F4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90F5-F555-473C-AA72-BEE5F70D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B322-3AC9-44A9-BF44-288E90E7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AAF5-B0F6-4D71-860A-6757FEF6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5556-5333-4417-8EBD-E55B92E9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1FB9-D621-441E-80A1-7C2AF76E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2F6C-C716-4C99-9E8D-F82E7BD7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46A0-2923-4FE7-8839-EC79E8DE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8B3D-90FF-4FC4-8F89-5684A8A1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D98C-C6CD-408A-AF22-329E8F98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C37C-EE86-4D23-820B-17D641C2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27BA-5636-4F98-A3A3-343130A38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AD4D-B4EC-42C7-A438-7534C1DF3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9ED08-E32B-4285-8929-9D7FA33FA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F50D2-3B30-4AAA-BDDD-85C8D0FC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325A7-632B-4FA1-A3F9-A25DC7EF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6391F-5DA7-4B94-B79A-3DFB1991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E8C1F-5259-4BEB-A8C4-A9116552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023C-D98A-46FB-BF3F-364BA71C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E9933-6A90-4BAE-945F-3019C469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2F8D6-F8C4-4DEB-839C-32B5D689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EE38D-2D12-44EF-85BD-B409F495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FA090-91E4-4E33-A5AC-E6652E46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0B58C-60A5-437D-A4C0-D92F49DF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FF091-D370-4D40-9C92-4B3745871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498CE-2FB1-4B00-8CB5-7975CBAA2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A7EA9-C6FE-40ED-8586-FC36F6C57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96C56-4C53-4BB3-A1E9-C02DA1C1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609E4-FEC1-43BC-8110-1BDA0581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5C10-F25B-4FDF-A03C-125A246C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AA5E7-760C-4E5E-B01F-7AD3DE1B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9E262-5E4B-42A9-8D4D-1A81CDEA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67331-692A-4625-98BF-5AB7E58A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986C7-8A10-47D2-94D8-A3EACD7C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F3FBA-0C23-401F-A2CF-561E8E8A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5E27D-11C8-4C08-8286-9C730EEE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C5DF6-5CCA-451F-BDD7-B99A3BB8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118EC-C6DD-4E0B-83D6-2EDBD4A5F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ED725-7F38-40B7-ADC8-B8240B235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5F78-01F3-48AE-9AFB-E9E051FE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5556-5318-42A6-9759-C7121E2E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F80A-0338-4BA7-9D2C-89376F92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7A1A-C8B3-47B2-A420-B9C81790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7584-8D3F-472C-B731-8D33389B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4e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A8A6-DBA8-422B-8C9B-0E0DE1D45E2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4e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A353-AD62-4CB1-915F-2A1F8AC75DA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4ec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8f4ec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8f4ec"/>
              </a:buClr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4ec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8f4ec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4ec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8f4ec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4ec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8f4ec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4ec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8f4ec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4ec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8f4ec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be0e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be0e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be0e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1CD5-BFD0-476E-9F3A-CD7D8EDF923E}" type="slidenum">
              <a:rPr b="0" lang="en-US" sz="1400" spc="-1" strike="noStrike">
                <a:solidFill>
                  <a:srgbClr val="bbe0e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be0e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be0e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be0e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2343-2D8C-4F15-9EE7-BB7D5AB8F7A3}" type="slidenum">
              <a:rPr b="0" lang="en-US" sz="1400" spc="-1" strike="noStrike">
                <a:solidFill>
                  <a:srgbClr val="bbe0e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2.pct"/><Relationship Id="rId7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2819160"/>
            <a:ext cx="4343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8f4ec"/>
                </a:solidFill>
                <a:latin typeface="Gill Sans Ultra Bold"/>
              </a:rPr>
              <a:t>SHORT STORY TERMS</a:t>
            </a:r>
            <a:endParaRPr b="0" lang="en-US" sz="6500" spc="-1" strike="noStrike">
              <a:solidFill>
                <a:srgbClr val="f8f4ec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105520" y="1905120"/>
            <a:ext cx="3200400" cy="3200400"/>
          </a:xfrm>
          <a:prstGeom prst="rect">
            <a:avLst/>
          </a:prstGeom>
          <a:ln w="57240">
            <a:solidFill>
              <a:srgbClr val="0259ff"/>
            </a:solidFill>
            <a:miter/>
          </a:ln>
        </p:spPr>
      </p:pic>
      <p:sp>
        <p:nvSpPr>
          <p:cNvPr id="167" name=""/>
          <p:cNvSpPr/>
          <p:nvPr/>
        </p:nvSpPr>
        <p:spPr>
          <a:xfrm>
            <a:off x="533520" y="4952880"/>
            <a:ext cx="3809880" cy="0"/>
          </a:xfrm>
          <a:prstGeom prst="line">
            <a:avLst/>
          </a:prstGeom>
          <a:ln w="66600">
            <a:solidFill>
              <a:srgbClr val="025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4e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38188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f8f4ec"/>
                </a:solidFill>
                <a:uFillTx/>
                <a:latin typeface="Gill Sans Ultra Bold"/>
              </a:rPr>
              <a:t>SHORT STORY ELEMENTS</a:t>
            </a:r>
            <a:endParaRPr b="0" lang="en-US" sz="4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259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59ff"/>
                </a:solidFill>
                <a:latin typeface="Verdana"/>
              </a:rPr>
              <a:t> </a:t>
            </a:r>
            <a:r>
              <a:rPr b="1" lang="en-US" sz="3800" spc="-1" strike="noStrike">
                <a:solidFill>
                  <a:srgbClr val="0259ff"/>
                </a:solidFill>
                <a:latin typeface="Verdana"/>
              </a:rPr>
              <a:t>SETTING</a:t>
            </a:r>
            <a:r>
              <a:rPr b="1" lang="en-US" sz="3200" spc="-1" strike="noStrike">
                <a:solidFill>
                  <a:srgbClr val="0259ff"/>
                </a:solidFill>
                <a:latin typeface="Verdana"/>
              </a:rPr>
              <a:t>:</a:t>
            </a:r>
            <a:r>
              <a:rPr b="0" lang="en-US" sz="3200" spc="-1" strike="noStrike">
                <a:solidFill>
                  <a:srgbClr val="0259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1417680" y="2895480"/>
            <a:ext cx="673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lac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time period that a story takes place</a:t>
            </a:r>
            <a:endParaRPr b="0" lang="en-US" sz="3200" spc="-1" strike="noStrike">
              <a:solidFill>
                <a:srgbClr val="f8f4e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f8f4ec"/>
                </a:solidFill>
                <a:uFillTx/>
                <a:latin typeface="Gill Sans Ultra Bold"/>
              </a:rPr>
              <a:t>SHORT STORY ELEMENTS</a:t>
            </a:r>
            <a:endParaRPr b="0" lang="en-US" sz="4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2400" y="1981080"/>
            <a:ext cx="3962160" cy="990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259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59ff"/>
                </a:solidFill>
                <a:latin typeface="Verdana"/>
              </a:rPr>
              <a:t> </a:t>
            </a:r>
            <a:r>
              <a:rPr b="1" lang="en-US" sz="3400" spc="-1" strike="noStrike" u="sng">
                <a:solidFill>
                  <a:srgbClr val="0259ff"/>
                </a:solidFill>
                <a:uFillTx/>
                <a:latin typeface="Verdana"/>
              </a:rPr>
              <a:t>Protagonist</a:t>
            </a:r>
            <a:r>
              <a:rPr b="1" lang="en-US" sz="2800" spc="-1" strike="noStrike">
                <a:solidFill>
                  <a:srgbClr val="0259ff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259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579600" y="2666880"/>
            <a:ext cx="391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015"/>
                </a:solidFill>
                <a:latin typeface="Verdana"/>
              </a:rPr>
              <a:t>Central character in a story</a:t>
            </a:r>
            <a:endParaRPr b="0" lang="en-US" sz="3200" spc="-1" strike="noStrike">
              <a:solidFill>
                <a:srgbClr val="f8f4ec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18080" y="1981080"/>
            <a:ext cx="3962520" cy="990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842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842"/>
                </a:solidFill>
                <a:latin typeface="Verdana"/>
              </a:rPr>
              <a:t> </a:t>
            </a:r>
            <a:r>
              <a:rPr b="1" lang="en-US" sz="3600" spc="-1" strike="noStrike" u="sng">
                <a:solidFill>
                  <a:srgbClr val="ff0842"/>
                </a:solidFill>
                <a:uFillTx/>
                <a:latin typeface="Verdana"/>
              </a:rPr>
              <a:t>Antagonist</a:t>
            </a:r>
            <a:r>
              <a:rPr b="1" lang="en-US" sz="3200" spc="-1" strike="noStrike">
                <a:solidFill>
                  <a:srgbClr val="ff0842"/>
                </a:solidFill>
                <a:latin typeface="Verdana"/>
              </a:rPr>
              <a:t>:</a:t>
            </a:r>
            <a:r>
              <a:rPr b="0" lang="en-US" sz="3200" spc="-1" strike="noStrike">
                <a:solidFill>
                  <a:srgbClr val="ff0842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8f4ec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75280" y="2666880"/>
            <a:ext cx="3916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015"/>
                </a:solidFill>
                <a:latin typeface="Verdana"/>
              </a:rPr>
              <a:t>Character or force that works </a:t>
            </a:r>
            <a:r>
              <a:rPr b="1" lang="en-US" sz="3200" spc="-1" strike="noStrike" u="sng">
                <a:solidFill>
                  <a:srgbClr val="f8f4ec"/>
                </a:solidFill>
                <a:uFillTx/>
                <a:latin typeface="Verdana"/>
              </a:rPr>
              <a:t>against</a:t>
            </a:r>
            <a:r>
              <a:rPr b="1" lang="en-US" sz="3200" spc="-1" strike="noStrike">
                <a:solidFill>
                  <a:srgbClr val="2d2015"/>
                </a:solidFill>
                <a:latin typeface="Verdana"/>
              </a:rPr>
              <a:t> the protagonist.</a:t>
            </a:r>
            <a:endParaRPr b="0" lang="en-US" sz="3200" spc="-1" strike="noStrike">
              <a:solidFill>
                <a:srgbClr val="f8f4ec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43400" y="1981080"/>
            <a:ext cx="0" cy="3124440"/>
          </a:xfrm>
          <a:prstGeom prst="line">
            <a:avLst/>
          </a:prstGeom>
          <a:ln w="57240">
            <a:solidFill>
              <a:srgbClr val="f8f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4ec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124080" y="5029200"/>
            <a:ext cx="236232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f8f4ec"/>
                </a:solidFill>
                <a:uFillTx/>
                <a:latin typeface="Gill Sans Ultra Bold"/>
              </a:rPr>
              <a:t>SHORT STORY ELEMENTS</a:t>
            </a:r>
            <a:endParaRPr b="0" lang="en-US" sz="4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280" y="2133360"/>
            <a:ext cx="7632720" cy="9903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259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59ff"/>
                </a:solidFill>
                <a:latin typeface="Verdana"/>
              </a:rPr>
              <a:t> </a:t>
            </a:r>
            <a:r>
              <a:rPr b="1" lang="en-US" sz="3800" spc="-1" strike="noStrike">
                <a:solidFill>
                  <a:srgbClr val="0259ff"/>
                </a:solidFill>
                <a:latin typeface="Verdana"/>
              </a:rPr>
              <a:t>CHARACTERIZATION:</a:t>
            </a:r>
            <a:r>
              <a:rPr b="0" lang="en-US" sz="3200" spc="-1" strike="noStrike">
                <a:solidFill>
                  <a:srgbClr val="0259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862360"/>
            <a:ext cx="7848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ethod used by a writer to develop a character.. It may include:</a:t>
            </a:r>
            <a:endParaRPr b="0" lang="en-US" sz="2800" spc="-1" strike="noStrike">
              <a:solidFill>
                <a:srgbClr val="f8f4e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 character's appearance, </a:t>
            </a:r>
            <a:endParaRPr b="0" lang="en-US" sz="2800" spc="-1" strike="noStrike">
              <a:solidFill>
                <a:srgbClr val="f8f4e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 character's actions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8f4e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) character’s speech, </a:t>
            </a:r>
            <a:endParaRPr b="0" lang="en-US" sz="2800" spc="-1" strike="noStrike">
              <a:solidFill>
                <a:srgbClr val="f8f4e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4) revealing the character's thoughts, </a:t>
            </a:r>
            <a:endParaRPr b="0" lang="en-US" sz="2800" spc="-1" strike="noStrike">
              <a:solidFill>
                <a:srgbClr val="f8f4e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5) getting the reactions of others</a:t>
            </a:r>
            <a:endParaRPr b="0" lang="en-US" sz="2800" spc="-1" strike="noStrike">
              <a:solidFill>
                <a:srgbClr val="f8f4e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f8f4ec"/>
                </a:solidFill>
                <a:uFillTx/>
                <a:latin typeface="Gill Sans Ultra Bold"/>
              </a:rPr>
              <a:t>SHORT STORY ELEMENTS</a:t>
            </a:r>
            <a:endParaRPr b="0" lang="en-US" sz="4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782720"/>
            <a:ext cx="7632720" cy="990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259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59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259ff"/>
                </a:solidFill>
                <a:latin typeface="Verdana"/>
              </a:rPr>
              <a:t>INTERNAL </a:t>
            </a:r>
            <a:r>
              <a:rPr b="1" lang="en-US" sz="3800" spc="-1" strike="noStrike">
                <a:solidFill>
                  <a:srgbClr val="0259ff"/>
                </a:solidFill>
                <a:latin typeface="Verdana"/>
              </a:rPr>
              <a:t>CONFLICT</a:t>
            </a:r>
            <a:r>
              <a:rPr b="1" lang="en-US" sz="3200" spc="-1" strike="noStrike">
                <a:solidFill>
                  <a:srgbClr val="0259ff"/>
                </a:solidFill>
                <a:latin typeface="Verdana"/>
              </a:rPr>
              <a:t>:</a:t>
            </a:r>
            <a:r>
              <a:rPr b="0" lang="en-US" sz="3200" spc="-1" strike="noStrike">
                <a:solidFill>
                  <a:srgbClr val="0259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24685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 vs. self</a:t>
            </a:r>
            <a:endParaRPr b="0" lang="en-US" sz="3200" spc="-1" strike="noStrike">
              <a:solidFill>
                <a:srgbClr val="f8f4ec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1960" y="3246480"/>
            <a:ext cx="7632720" cy="990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842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842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0842"/>
                </a:solidFill>
                <a:latin typeface="Verdana"/>
              </a:rPr>
              <a:t>EXTERNAL </a:t>
            </a:r>
            <a:r>
              <a:rPr b="1" lang="en-US" sz="3800" spc="-1" strike="noStrike">
                <a:solidFill>
                  <a:srgbClr val="ff0842"/>
                </a:solidFill>
                <a:latin typeface="Verdana"/>
              </a:rPr>
              <a:t>CONFLICT</a:t>
            </a:r>
            <a:r>
              <a:rPr b="1" lang="en-US" sz="3200" spc="-1" strike="noStrike">
                <a:solidFill>
                  <a:srgbClr val="ff0842"/>
                </a:solidFill>
                <a:latin typeface="Verdana"/>
              </a:rPr>
              <a:t>:</a:t>
            </a:r>
            <a:r>
              <a:rPr b="0" lang="en-US" sz="3200" spc="-1" strike="noStrike">
                <a:solidFill>
                  <a:srgbClr val="ff0842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8f4ec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40086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4ec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 vs. man</a:t>
            </a:r>
            <a:endParaRPr b="0" lang="en-US" sz="3200" spc="-1" strike="noStrike">
              <a:solidFill>
                <a:srgbClr val="f8f4e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 vs. nature</a:t>
            </a:r>
            <a:endParaRPr b="0" lang="en-US" sz="3200" spc="-1" strike="noStrike">
              <a:solidFill>
                <a:srgbClr val="f8f4e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 vs. society</a:t>
            </a:r>
            <a:endParaRPr b="0" lang="en-US" sz="3200" spc="-1" strike="noStrike">
              <a:solidFill>
                <a:srgbClr val="f8f4ec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248520" y="41911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f8f4ec"/>
                </a:solidFill>
                <a:uFillTx/>
                <a:latin typeface="Gill Sans Ultra Bold"/>
              </a:rPr>
              <a:t>SHORT STORY ELEMENTS</a:t>
            </a:r>
            <a:endParaRPr b="0" lang="en-US" sz="4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44600" y="2209680"/>
            <a:ext cx="7632720" cy="990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0259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259ff"/>
                </a:solidFill>
                <a:latin typeface="Verdana"/>
              </a:rPr>
              <a:t>THEME:</a:t>
            </a:r>
            <a:endParaRPr b="0" lang="en-US" sz="38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2819520"/>
            <a:ext cx="75438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a general statement about life or human nature that can be taken from a story;  the story’s main idea</a:t>
            </a:r>
            <a:endParaRPr b="0" lang="en-US" sz="3400" spc="-1" strike="noStrike">
              <a:solidFill>
                <a:srgbClr val="f8f4e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8f4e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Gill Sans Ultra Bold"/>
              </a:rPr>
              <a:t>SHORT STORY MAP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f02b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42f02b"/>
                </a:solidFill>
                <a:latin typeface="Arial"/>
              </a:rPr>
              <a:t>Any ideas what the parts of the story are and how you would diagram them?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Gill Sans Ultra Bold"/>
              </a:rPr>
              <a:t>SHORT STORY MAP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2f02b"/>
                </a:solidFill>
                <a:uFillTx/>
                <a:latin typeface="Times New Roman"/>
              </a:rPr>
              <a:t>EXPOSITION</a:t>
            </a:r>
            <a:r>
              <a:rPr b="1" lang="en-US" sz="2400" spc="-1" strike="noStrike">
                <a:solidFill>
                  <a:srgbClr val="42f02b"/>
                </a:solidFill>
                <a:latin typeface="Times New Roman"/>
              </a:rPr>
              <a:t> – the story’s opening; background information (</a:t>
            </a:r>
            <a:r>
              <a:rPr b="1" lang="en-US" sz="2400" spc="-1" strike="noStrike">
                <a:solidFill>
                  <a:srgbClr val="00d0ff"/>
                </a:solidFill>
                <a:latin typeface="Times New Roman"/>
              </a:rPr>
              <a:t>setting, characters</a:t>
            </a:r>
            <a:r>
              <a:rPr b="1" lang="en-US" sz="2400" spc="-1" strike="noStrike">
                <a:solidFill>
                  <a:srgbClr val="42f02b"/>
                </a:solidFill>
                <a:latin typeface="Times New Roman"/>
              </a:rPr>
              <a:t>, etc.)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be0e3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2f02b"/>
                </a:solidFill>
                <a:uFillTx/>
                <a:latin typeface="Times New Roman"/>
              </a:rPr>
              <a:t>INITIAL CONFLICT</a:t>
            </a:r>
            <a:r>
              <a:rPr b="1" lang="en-US" sz="2400" spc="-1" strike="noStrike">
                <a:solidFill>
                  <a:srgbClr val="42f02b"/>
                </a:solidFill>
                <a:latin typeface="Times New Roman"/>
              </a:rPr>
              <a:t> – </a:t>
            </a:r>
            <a:r>
              <a:rPr b="1" lang="en-US" sz="2400" spc="-1" strike="noStrike">
                <a:solidFill>
                  <a:srgbClr val="00d0ff"/>
                </a:solidFill>
                <a:latin typeface="Times New Roman"/>
              </a:rPr>
              <a:t>main issue</a:t>
            </a:r>
            <a:r>
              <a:rPr b="1" lang="en-US" sz="2400" spc="-1" strike="noStrike">
                <a:solidFill>
                  <a:srgbClr val="42f02b"/>
                </a:solidFill>
                <a:latin typeface="Times New Roman"/>
              </a:rPr>
              <a:t> that needs to be overcome/resolved by the main character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be0e3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2f02b"/>
                </a:solidFill>
                <a:uFillTx/>
                <a:latin typeface="Times New Roman"/>
              </a:rPr>
              <a:t>RISING ACTION</a:t>
            </a:r>
            <a:r>
              <a:rPr b="1" lang="en-US" sz="2400" spc="-1" strike="noStrike">
                <a:solidFill>
                  <a:srgbClr val="42f02b"/>
                </a:solidFill>
                <a:latin typeface="Times New Roman"/>
              </a:rPr>
              <a:t> – more problems/events leading to the climax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be0e3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2f02b"/>
                </a:solidFill>
                <a:uFillTx/>
                <a:latin typeface="Times New Roman"/>
              </a:rPr>
              <a:t>CLIMAX</a:t>
            </a:r>
            <a:r>
              <a:rPr b="1" lang="en-US" sz="2400" spc="-1" strike="noStrike">
                <a:solidFill>
                  <a:srgbClr val="42f02b"/>
                </a:solidFill>
                <a:latin typeface="Times New Roman"/>
              </a:rPr>
              <a:t> - the crisis, or most exciting point in the plot where emotion peaks; the </a:t>
            </a:r>
            <a:r>
              <a:rPr b="1" i="1" lang="en-US" sz="2400" spc="-1" strike="noStrike">
                <a:solidFill>
                  <a:srgbClr val="00d0ff"/>
                </a:solidFill>
                <a:latin typeface="Times New Roman"/>
              </a:rPr>
              <a:t>turning point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bbe0e3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2f02b"/>
                </a:solidFill>
                <a:uFillTx/>
                <a:latin typeface="Times New Roman"/>
              </a:rPr>
              <a:t>DENOUEMENT</a:t>
            </a:r>
            <a:r>
              <a:rPr b="1" lang="en-US" sz="2400" spc="-1" strike="noStrike">
                <a:solidFill>
                  <a:srgbClr val="42f02b"/>
                </a:solidFill>
                <a:latin typeface="Times New Roman"/>
              </a:rPr>
              <a:t> – stage where the conflict is </a:t>
            </a:r>
            <a:r>
              <a:rPr b="1" lang="en-US" sz="2400" spc="-1" strike="noStrike" u="sng">
                <a:solidFill>
                  <a:srgbClr val="00d0ff"/>
                </a:solidFill>
                <a:uFillTx/>
                <a:latin typeface="Times New Roman"/>
              </a:rPr>
              <a:t>resolved                   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304920" y="1371600"/>
            <a:ext cx="845820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Gill Sans Ultra Bold"/>
              </a:rPr>
              <a:t>SHORT STORY MAP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f02b"/>
                </a:solidFill>
                <a:latin typeface="Arial"/>
              </a:rPr>
              <a:t>Now, you try: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f02b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2f02b"/>
                </a:solidFill>
                <a:latin typeface="Arial"/>
              </a:rPr>
              <a:t>On a blank piece of paper, draw and complete a story map for a movie you’ve seen recently </a:t>
            </a:r>
            <a:r>
              <a:rPr b="1" lang="en-US" sz="2800" spc="-1" strike="noStrike" u="sng">
                <a:solidFill>
                  <a:srgbClr val="ff0842"/>
                </a:solidFill>
                <a:uFillTx/>
                <a:latin typeface="Arial"/>
              </a:rPr>
              <a:t>or</a:t>
            </a:r>
            <a:r>
              <a:rPr b="1" lang="en-US" sz="2800" spc="-1" strike="noStrike">
                <a:solidFill>
                  <a:srgbClr val="ff0842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2f02b"/>
                </a:solidFill>
                <a:latin typeface="Arial"/>
              </a:rPr>
              <a:t>a book you’ve read.</a:t>
            </a:r>
            <a:r>
              <a:rPr b="1" i="1" lang="en-US" sz="2800" spc="-1" strike="noStrike">
                <a:solidFill>
                  <a:srgbClr val="42f02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4267080" y="3932280"/>
            <a:ext cx="4343400" cy="27003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371600" y="428004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*Include at least 2 rising action events and 2 falling action events.</a:t>
            </a:r>
            <a:endParaRPr b="0" lang="en-US" sz="1600" spc="-1" strike="noStrike">
              <a:solidFill>
                <a:srgbClr val="f8f4e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20:07:54Z</dcterms:created>
  <dc:creator>PSD</dc:creator>
  <dc:description/>
  <dc:language>en-US</dc:language>
  <cp:lastModifiedBy>PSD</cp:lastModifiedBy>
  <dcterms:modified xsi:type="dcterms:W3CDTF">2009-12-01T16:34:59Z</dcterms:modified>
  <cp:revision>9</cp:revision>
  <dc:subject/>
  <dc:title>SHORT STORY TERMS</dc:title>
</cp:coreProperties>
</file>